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261-1B5B-4858-B135-7FC227B1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EDF-4755-42CC-9E78-6ADC2E5A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FD4-16A6-426C-AB5D-94DF58F9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163-1A5E-4415-8FDF-960EDE15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E8A-57AD-4FE0-AEAF-9D76CADF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D6C-9632-4DDF-AEB3-52311B46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BE0-9108-45AA-B068-82A9DF1C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F1E-775F-4752-B857-9199AD16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E49-C9DF-4B6B-B020-42E4B7BD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003-D65B-4379-A7B4-43F1F9BE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D84-4989-4CC3-9937-223FBC49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86A-2600-41A3-A5DE-5B13AA53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1FD5-E110-4D7C-96EA-52EFA0B5B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3917880"/>
            <a:ext cx="660600" cy="577800"/>
          </a:xfrm>
          <a:custGeom>
            <a:avLst/>
            <a:gdLst/>
            <a:ahLst/>
            <a:rect l="l" t="t" r="r" b="b"/>
            <a:pathLst>
              <a:path w="416" h="364">
                <a:moveTo>
                  <a:pt x="208" y="354"/>
                </a:moveTo>
                <a:lnTo>
                  <a:pt x="0" y="100"/>
                </a:lnTo>
                <a:lnTo>
                  <a:pt x="124" y="0"/>
                </a:lnTo>
                <a:lnTo>
                  <a:pt x="416" y="364"/>
                </a:lnTo>
              </a:path>
            </a:pathLst>
          </a:custGeom>
          <a:noFill/>
          <a:ln w="44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3240" y="4479840"/>
            <a:ext cx="314640" cy="149400"/>
          </a:xfrm>
          <a:custGeom>
            <a:avLst/>
            <a:gdLst/>
            <a:ahLst/>
            <a:rect l="l" t="t" r="r" b="b"/>
            <a:pathLst>
              <a:path w="198" h="94">
                <a:moveTo>
                  <a:pt x="198" y="2"/>
                </a:moveTo>
                <a:lnTo>
                  <a:pt x="78" y="94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15520" y="4049640"/>
            <a:ext cx="3102120" cy="992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ower Controlled Class 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ue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stricte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04:19Z</dcterms:created>
  <dc:creator>HP Authorized Customer</dc:creator>
  <dc:description/>
  <dc:language>en-US</dc:language>
  <cp:lastModifiedBy>HP Authorized Customer</cp:lastModifiedBy>
  <dcterms:modified xsi:type="dcterms:W3CDTF">2006-03-04T20:22:48Z</dcterms:modified>
  <cp:revision>8</cp:revision>
  <dc:subject/>
  <dc:title>Slide 1</dc:title>
</cp:coreProperties>
</file>